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236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423D-045D-4CC1-997D-21498715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8BC88-272F-42C1-883D-59E1C917F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8CA-4212-4FEA-8DFB-4D6EBCC5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B80-4911-46A2-8306-9D15286D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166-4CBC-4717-A962-3D6F7B51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73F-B44E-40C6-AEDD-748CF733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E9B-6F65-45A4-A179-004A3B5E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02F-EBF0-4056-9492-D8C7E24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49DE-7BA1-4C96-B56E-A5892F5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EE8-1BF6-476A-AC1C-247C381F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B27B-B15B-4DB7-845D-100F27F9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9B4-253A-43E2-A215-9DB2A04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C607-1E2A-4284-BB68-0F3474B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B44-9CD4-4E1B-BA15-A7238C0B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6AE-1578-4EE8-BCFB-43E6F2C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7B2E-D714-4A63-9CB0-4B67FE8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110-3F0D-4E5C-B063-C818280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8776-65FE-448E-926E-7A4CFCB6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C39-732A-40FF-B98D-B5815F4B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7D9F-E30E-4F7B-A34E-25BF9558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9E63-ACAA-42E1-BDA3-D21513A2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83DD-4C51-4245-989B-63320B11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D9F9-C35D-4D15-BB65-82F9FB4B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DAFB-4D5C-41B5-A2AC-744F656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318-38C4-4F17-A586-AA852FA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4F75-8FC6-435A-8533-9A098FE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B68C-F03A-4FA2-BE42-590C433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A909-A640-4938-885A-8C20049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49CF-DEDE-472A-81BE-6B43804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BFD8-2FCE-4077-99A2-2B44A948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189F-40F7-4419-9E5F-E559E352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BC3D-C63F-44C9-96A0-4718968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14A8-A8CE-42B7-B48D-78017247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836C-DEC7-4173-973C-73411BBF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F3C0-CEDB-495F-882D-71021238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F2E-6BB3-41FB-9BF1-08A53A4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DEF0-E986-4805-90B6-A00AD3D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FB7B-198B-42F6-AAE9-6FC2B1C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AFF3-C4B3-4EED-9C46-01A12386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D55B-10A9-4121-9FEB-2D8000F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6814-E512-4D49-93BD-E7FD37A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1084-1E9A-4013-A250-9502D58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8349-649E-4064-9892-FBAA8CD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5F5B-A954-4433-AF44-5299F6C4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53EE-4C92-4070-B9DB-8245690F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CA6-0353-4948-978D-9F2361B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8C1-42F7-4BB9-8040-FE063FA3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DB3-9137-4231-86DD-173E232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180-9F31-43E6-8B41-B9B5A95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623-B510-4E35-ADB6-83C05BE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75F79-6E42-4FE8-9834-AC0E8C601717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2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6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6E3CC-4B4A-4197-83A8-A807E6408519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01748-D719-41B4-9F96-4C818E8DA806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05AF8-B4CB-4A63-B2DD-456C1ACCCA69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5"/>
          <p:cNvSpPr/>
          <p:nvPr/>
        </p:nvSpPr>
        <p:spPr>
          <a:xfrm>
            <a:off x="1187280" y="14842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84360" y="260280"/>
            <a:ext cx="8076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А АГЕНЦИЯ ЗА ЕКСПОРТНО ЗАСТРАХОВАНЕ ЕА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684360" y="4724280"/>
            <a:ext cx="8076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ждународна конференц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ова и инвестиционна подкрепа за МСП – Sofia International Money Expo“ (SIM EXPO 202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09.10.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905040" y="1628640"/>
            <a:ext cx="7705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430200" y="450720"/>
            <a:ext cx="828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НАС – БЪЛГАРСКА АГЕНЦИЯ ЗА ЕКСПОРТНО ЗАСТРАХОВАНЕ /БАЕЗ/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76360" y="1042920"/>
            <a:ext cx="7991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БАЕЗ е единственото в Р България застрахователно дружество - 100% държавна собственост, с Принципал Министърът на Икономиката и индустрията. Основано е през 1998 г. и има над 20-годишен опит в областта на експортното застраховане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ейността на БАЕЗ се регламентира съгласно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два основни регламента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кона за експортното застрахо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(дейност за сметка на държавата). По дейността си за сметка на държавата БАЕЗ гарантира изплащането на застрахователни обезщетения посредством ежегодно заделяни средства в Държавния бюджет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Кодекса за застраховането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(дейност за собствена сметка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Мисията на БАЕЗ е да подкрепя политиката на държавата в няколко основни направления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Стимулиране на износа на стоки и услуги на българските предприят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амаляване междуфирмената задлъжнялост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Улесняване достъпа до финансиране на фирми от сегмента МСП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3"/>
          <p:cNvSpPr/>
          <p:nvPr/>
        </p:nvSpPr>
        <p:spPr>
          <a:xfrm>
            <a:off x="0" y="44280"/>
            <a:ext cx="913464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ългарска компания, която търгува на отсрочено плащане в страната и в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чужди държави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ползвател на застрахователно обезщетение: Бан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длъжник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на длъжник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извънредни обстоятелства в държавата на длъжника, възпрепятстващи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дължимо плащане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(за длъжници извън ЕС и ОИСР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нително обезпечаване на кредити на МСП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стъп на МСП до оборотно финансиран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Family, insurance, life, service icon - Download on Iconfinder"/>
          <p:cNvPicPr/>
          <p:nvPr/>
        </p:nvPicPr>
        <p:blipFill>
          <a:blip r:embed="rId1"/>
          <a:stretch/>
        </p:blipFill>
        <p:spPr>
          <a:xfrm>
            <a:off x="1066680" y="955800"/>
            <a:ext cx="625680" cy="625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692360" y="1100160"/>
            <a:ext cx="68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и на търговски риск /в полза на трето ползващо лице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755640" y="324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ИТЕ ЗАСТРАХОВАТЕЛНИ РЕШЕНИ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И ЗА БЪЛГАРСКИ КОМПАНИ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0" y="44280"/>
            <a:ext cx="9144000" cy="70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ЕТО ЗАСТРАХОВАТЕЛНО РЕШЕНИЕ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О ЗА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НКИ И ФИРМИ - ИЗНОСИТЕЛ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„Кредити за предекспортно финансиране“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анка/Финансова институ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Кредитополучател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при настъпила пълна изискуемост на креди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покритие: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 90% от размера на кредит за предекспортно финансиране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Специфика на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та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страхованият предоставя проекти и/или сключени договори на Кредитопо-       лучателя за износ на български стоки или услуги в чужбин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44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Кредитополучателят сключва Застраховка на търговски и политически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 риск в БАЕЗ за вземанията по договор за износ, предмет на финансиране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щита на износителя от понасяне на финансови загуби при реализиране на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експорт на отстрочено плащане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2" descr="Business, company, credit, insurance, invest, money, umbrella icon -  Download on Iconfinder"/>
          <p:cNvPicPr/>
          <p:nvPr/>
        </p:nvPicPr>
        <p:blipFill>
          <a:blip r:embed="rId1"/>
          <a:stretch/>
        </p:blipFill>
        <p:spPr>
          <a:xfrm>
            <a:off x="1332000" y="750960"/>
            <a:ext cx="720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0" y="44280"/>
            <a:ext cx="9134640" cy="64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ЕТО ЗАСТРАХОВАТЕЛНО РЕШЕНИЕ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О ЗА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НКИ И МСП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„МСП Финансови партньори“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анка/Финансова институция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Кредитополучател - МСП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при настъпила пълна изискуемост на креди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покритие: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между 3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7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% от размер на кредит на МСП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ващ до 100% обезпечението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учредено от клиента в полза на банка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иемливи обезпечения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ипотека на жилищен или друг имот, залог на парични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средства, залог на стоково-материални ценности, залог на ДМА и др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Специфика на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оцеса при щета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БАЕЗ изплаща при покана пропорционална част на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реализираното (частично или пълно) обезпечение по кредита от страна на банкат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кредитен лимит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1 млн. лева – за микро и малки предприятия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2 млн. лева – за средни предприятия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ференциално тарифно число (премиен процент)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нително обезпечаване на кредити на МСП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стъп на МСП до оборотно финансиран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2" descr="Business, company, credit, insurance, invest, money, umbrella icon -  Download on Iconfinder"/>
          <p:cNvPicPr/>
          <p:nvPr/>
        </p:nvPicPr>
        <p:blipFill>
          <a:blip r:embed="rId1"/>
          <a:stretch/>
        </p:blipFill>
        <p:spPr>
          <a:xfrm>
            <a:off x="1908000" y="692280"/>
            <a:ext cx="721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0" y="44280"/>
            <a:ext cx="913464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и компании, износители на български стоки и/или услуги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сключили договори с чуждестранни контрагенти от ЕС и ЕИО, които изискват гаран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Обхват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гаранции за участие в търг, гаранции за авансово плащане, гаранции за добро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зпълнение, гаранции за поддръжка и/или гаранционно обслужван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крити проекти: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оговори с чуждестранни публични или частни бенефициент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крити рискове: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изпълнение или неточно изпълнение на гарантираните с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оговор задължения към Бенефициен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обезпечаване на обществени поръчки при по-ниски разходи и без необходимост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от блокиране на парични средства, учредяване на ипотеки и залог на активи от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Изпълнител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удобна, лесна и бърза процедура по издаване на гаранцият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гъвкавост и възможност за участие в по-голям брой поръчки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0" descr="Free Icon | Certificate"/>
          <p:cNvPicPr/>
          <p:nvPr/>
        </p:nvPicPr>
        <p:blipFill>
          <a:blip r:embed="rId1"/>
          <a:stretch/>
        </p:blipFill>
        <p:spPr>
          <a:xfrm>
            <a:off x="1619280" y="1341360"/>
            <a:ext cx="716040" cy="636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2335320" y="1488960"/>
            <a:ext cx="51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Гаранции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на чуждестранни проект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755640" y="324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ИЯТ ПРЕДСТОЯЩ ПРОЕК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СТРАХОВАТЕЛНО РЕШЕНИЕ, ПРЕДНАЗНАЧЕНО З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И КОМПАНИИ – УЧАСТНИЦИ В ЧУЖДЕСТРАНЕН ПРОЕК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582560" y="1268280"/>
            <a:ext cx="59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СВЪРЖЕТЕ СЕ С НАС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476360" y="2006640"/>
            <a:ext cx="608508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ирекция „Застраховане“, отдел „Връзки с клиенти“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-mail: </a:t>
            </a:r>
            <a:r>
              <a:rPr b="0" lang="en-US" sz="1600" spc="-1" strike="noStrike">
                <a:solidFill>
                  <a:srgbClr val="3f7819"/>
                </a:solidFill>
                <a:latin typeface="Trebuchet MS"/>
                <a:ea typeface="Calibri"/>
              </a:rPr>
              <a:t>accounts@baez.b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ел.: +359 2 923 69 14, 16, 26, 34, 4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о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: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359 884 955751, +359 887 624325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359 884 430259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+359 88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4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133685,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359 885 120193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2:03:20Z</dcterms:created>
  <dc:creator>Vessi</dc:creator>
  <dc:description/>
  <dc:language>en-US</dc:language>
  <cp:lastModifiedBy>Margarita Damyanova</cp:lastModifiedBy>
  <cp:lastPrinted>2022-09-13T11:28:17Z</cp:lastPrinted>
  <dcterms:modified xsi:type="dcterms:W3CDTF">2024-10-10T05:51:12Z</dcterms:modified>
  <cp:revision>1250</cp:revision>
  <dc:subject/>
  <dc:title>PowerPoint Presentation</dc:title>
</cp:coreProperties>
</file>